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61B4-6ACA-4B93-B71D-C7C3B96CF3B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985-1C74-4835-A9AD-B3E2485F35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agnostic Assessment of student understanding of st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925-F2EF-4C70-8AE5-39853A5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89A-9E4C-49C9-B90C-882ED904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B61-EA0A-499B-830F-FC62B867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21-2290-4637-9EF8-561854D9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344-BDF5-45F6-BD1F-CEA283FB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2196-4144-48D4-B89A-423F5432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827D-1719-4438-AC6C-8245627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B31-8BD0-4213-9738-60783E2D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2C24-3B63-480A-9910-197CDCD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C591-1090-41EE-8939-4B4A7B39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572-8C77-4299-9FFF-5815D85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B64-EFBD-495F-ADC0-28C2F3F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C24-35E6-4312-94E1-59F3B00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8286-C043-4C93-8DDF-B1A4BDB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297-6A8E-454F-8D70-E8D52A02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92F-38EC-4034-9BA8-1A1AC9D7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5DCB-7ABF-4165-8C93-D6B29D9E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629F-5067-4D96-8523-19DCD747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0FD5-B35B-4C4A-8582-F291150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0EBE-7744-4CA7-9756-9575CAF5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D2B5-7309-4A4F-BD1E-CF3F7842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9F36-4287-4134-94D3-431DE77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FEC-0427-45A5-88F3-8176374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FADF-8CBE-461D-9C1E-37340E7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79DC-E6B5-4171-BB09-E5E1CE8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20C4-44AF-4981-A053-A89B5A1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366D-34C5-4147-AC93-DB1EA4F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EB3D-CC57-47C5-9C83-B35D0CD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5335-5222-417B-BC05-79A7C8F9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4E4D-172F-41AC-8892-3DA43BA7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E751-13BA-44C8-BD60-F82B8D4D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50DF-28A2-415E-B3F9-03FBB4B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9321-7A97-4180-9FA2-487EC928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A0E-11EB-4767-A6E4-B3943202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2DBA-BB4C-40BC-AF0A-17F5BB7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3945-E010-41F6-B607-8F6906EA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E759-0652-43C2-8411-5C54540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40A0-8877-4092-89A5-7CE7582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710C-1729-40D3-9ADE-EDFDB95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82B5-00B2-4C54-B68C-C679266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A0F5-0041-4F2F-8676-FFA3145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DF67-DC59-4535-9704-509C6168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B919-A28A-4CC8-A0F0-AA245A91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2F3A-F311-4440-99D0-52368FE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808-0BB8-4AF5-86AE-AD42552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3DF3-7CEC-4722-AA22-D03C248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BF8A-948B-44CA-AEDB-32484F6E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5DF4-4BF2-454E-87C6-E591DD20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5851-BB4B-4557-A9A4-7D60F2DB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6B8B-A96B-4C71-AEEE-A4F2738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89C6-E0E5-46A0-8279-53E3DDD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4731-163E-4AF6-AC76-4342DE6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BA341-41F1-484D-8D83-3E828C7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7C21-33F4-47ED-BB07-2257D2E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A7B6-B171-40B4-82C9-0DC8B921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D4F-8F80-4EF1-8A1B-5F48AE9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2CC1-685C-4AB6-BA15-6A0FD16A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72BF-CBDF-4BE3-8D7D-05B5F576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05CF8-BFA0-4404-93D8-1BD4004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D670B-D4CA-4380-8F8C-543BE2F8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D4299-1C6D-4E19-9A12-90C2A52C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5B82-A9D6-42CD-A45B-D61B39B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13E2F-90BC-459D-8A74-06E74DA2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6EA0-9FCF-429D-A366-0E8CD09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1DE1-D720-4486-858E-B6BDD46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EC56-0997-4FEC-A375-D957E3A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C51-B590-4959-8094-7A3CCFA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3982-1815-43F5-88B6-1C131F1D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98219-838F-4722-99EF-F7BC92BE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4C76-A88B-4913-A349-53B3E27F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C7D2-6723-4397-ADB0-BE9742B4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E70F-6C46-4D67-9880-F7486E6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0ADD1-1DD2-44DD-9CA2-435E917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3EF9-0D08-4526-9328-3A0B779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71B7-6BA0-4145-A4E0-382E520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9DE9-31AC-470B-AABB-BF7EB1A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2733-9693-4D2E-93BD-C4B0EFA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FD3-066B-47F1-9887-AD23BE4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CB20-023A-45B9-8A28-30B5B5C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20E4-4EA0-45F9-83A1-CB13A9F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E791-9079-4D38-8AC9-7B8B8F8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5DBC-0DC5-4BCE-9803-79E40101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3AAB-6DA3-4643-93B7-44720341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54B-AA67-4159-BE97-0BD36A6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B49-C05A-4EDB-83BC-A6633DC03C9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A2E2-4D8E-4322-B5BD-7494B2253A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8B4-EF43-4C73-9FA8-FE45837B9B3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946E-18E5-4836-950A-14F26C477D2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4BA-DBEA-4FF8-8BA4-1B03D4BD10F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5578-B262-460C-9082-789BF38A2F3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8CD-2EAA-4A0B-9FD8-9CEC63F78B7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OISE Senior Chemistry AQ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Concept Presentation – November 9, 201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Presented by Wendy Loui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5" descr="C:\Profiles\ICW087-PAF.ICICLE.062\Local Settings\Temporary Internet Files\Content.IE5\5Z9UOFNT\MP900399578[1].jpg"/>
          <p:cNvPicPr/>
          <p:nvPr/>
        </p:nvPicPr>
        <p:blipFill>
          <a:blip r:embed="rId1"/>
          <a:stretch/>
        </p:blipFill>
        <p:spPr>
          <a:xfrm>
            <a:off x="2895480" y="2268360"/>
            <a:ext cx="1096920" cy="148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Profiles\ICW087-PAF.ICICLE.062\Local Settings\Temporary Internet Files\Content.IE5\5Z9UOFNT\MC900434868[1].png"/>
          <p:cNvPicPr/>
          <p:nvPr/>
        </p:nvPicPr>
        <p:blipFill>
          <a:blip r:embed="rId2"/>
          <a:stretch/>
        </p:blipFill>
        <p:spPr>
          <a:xfrm>
            <a:off x="419112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3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Use the balanced equation to set up a molar ratio: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 mole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2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=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2 moles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H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3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0.133 moles                     x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x   =  0.266 moles of ammonia produced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4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onvert moles of the desired product to mass requir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alculate the mass of ammonia in 0.266 mole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(g).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The atomic mas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= 14.007 u + 3 (1.008 u)  = 17.031 u  = 17.031 g / mol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Set up a ratio to convert moles to mass:                 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7.013 g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=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x  gram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1 mol                   0.266 mole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x  =  4.53 g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Concluding Statement: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From 3.75 g of nitrogen, 4.53 g of ammonia are produc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ndara"/>
              </a:rPr>
              <a:t>Student Demonstration: Explaining the Quantitative Relationships Expressed in Balanced Equations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118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o summarize the information learned about calculations and to assist students make the connection between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acroscopic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icroscopic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levels of reactions have them develop a table similar to the following using the previous reaction or they can use another reactio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 materials they will have available to demonstrate and teach their learning to the class about their tables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jellybeans of 3 different colours (one for each element; to represent particles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mini ‘mole’ animal toy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sca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 from molecular kit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y can then present their tables to the class to explain the relationship between number of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Mole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Gra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Molecu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Particles …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48320" y="1600200"/>
          <a:ext cx="3632040" cy="4997160"/>
        </p:xfrm>
        <a:graphic>
          <a:graphicData uri="http://schemas.openxmlformats.org/drawingml/2006/table">
            <a:tbl>
              <a:tblPr/>
              <a:tblGrid>
                <a:gridCol w="1212840"/>
                <a:gridCol w="1209600"/>
                <a:gridCol w="1209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.75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79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4.53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1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39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26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7.86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2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.35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.60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0866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7543800" y="2666880"/>
            <a:ext cx="380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1752120"/>
            <a:ext cx="7408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3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ake up homework problems on Using Molar mass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4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Handouts, Mole Ratio, Review definitions and concepts by preparing Concept Map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5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GIZMOs© computer program to Solve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6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eer Activity ‘Developing Flowcharts to Solve Problems’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uiz - ‘Definitions in Stoichiometry’ and Calculations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 &amp; 8: </a:t>
            </a: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Introduce ‘Actual &amp;Theoretical Yield - Limiting Reactant’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Lesson 9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Lab - Reaction between aqueous copper (II) sulfate and iron. (see the File ‘Stoichiometry Lab’).   Students will conduct lab to determine the amount of product produced and the percent yiel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0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Molar Volum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1: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i)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nit Review (Groups prepare a Concept Attainment Chart on ‘Stoichiometry’) and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i) S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art Culminating Task: Stoichiometric Applications in Industry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Additional Lessons Within the Unit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Difficulties &amp; Assess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1676520"/>
            <a:ext cx="7408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Difficulties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 (see summary handout for potential solutions the teacher can use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A)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ue to the multi-step calculations required to solve mole-to-mass conversion word problems students may experience difficulty organizing their information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B) Students belie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the coefficients in the balanced equation relate the masses of the substance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C) 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Students believe that c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hanging the coefficient for a substance changes the molar mas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) The chemical vocabulary associated with these operations may prevent the students from applying their mathematical skills to chemical phenomena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Assessment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iagnostic Assessment: pre-unit quiz, Hamburger Sandwiches problem, and ammonia reaction probl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rmati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Assessment: Homework, Gizmos work, Concept Attainment Strategy and class participation, Lab Report result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Summative Assessment: Unit test, quiz, Culminating Task</a:t>
            </a:r>
            <a:r>
              <a:rPr b="0" lang="en-CA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Expectations Addressed from the </a:t>
            </a:r>
            <a:r>
              <a:rPr b="1" lang="en-CA" sz="1400" spc="-1" strike="noStrike">
                <a:solidFill>
                  <a:srgbClr val="000000"/>
                </a:solidFill>
                <a:latin typeface="Candara"/>
              </a:rPr>
              <a:t>‘Quantities in Chemical Reactions’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Strand of Grade 11 Chemistry – University Preparation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2.5 Calculate the corresponding mass, or quantity in moles or molecules, for any given reactant or product in a balanced chemical equation as well as for any other reactant or product in the chemical reaction [AI]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3.4 Explain the quantitative relationships expressed in a balanced chemical equation, using appropriate units of measure (e.g., moles, grams, atoms, ions, molecules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Key concept students will learn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The coefficients of a chemical equation are the basis for interpreting and predicting quantitative relationships in chemical reactions (stoichiometry)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By the end of the unit students should be able to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)  Determine the amount of any substance in a reaction, given the amount of any other substance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i) Determine the mass of any substance in a reaction, given the amount or mass of any other substanc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ndara"/>
              </a:rPr>
              <a:t>Expectations &amp; Key Concep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</a:t>
            </a:r>
            <a:r>
              <a:rPr b="1" lang="en-CA" sz="1600" spc="-1" strike="noStrike">
                <a:solidFill>
                  <a:srgbClr val="073e87"/>
                </a:solidFill>
                <a:latin typeface="Candara"/>
              </a:rPr>
              <a:t>mole concept is introduced and used in stoichiometric calculation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Students learn to convert the mass of a substance to the number of particles and the number of moles of the substance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mole concept is the link that </a:t>
            </a:r>
            <a:r>
              <a:rPr b="0" i="1" lang="en-CA" sz="1600" spc="-1" strike="noStrike">
                <a:solidFill>
                  <a:srgbClr val="073e87"/>
                </a:solidFill>
                <a:latin typeface="Candara"/>
              </a:rPr>
              <a:t>relates the macroscopic measurement of mass or volume with the submicroscopic number of particle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llowing is an </a:t>
            </a:r>
            <a:r>
              <a:rPr b="1" lang="en-CA" sz="1600" spc="-1" strike="noStrike">
                <a:solidFill>
                  <a:srgbClr val="000000"/>
                </a:solidFill>
                <a:latin typeface="Candara"/>
              </a:rPr>
              <a:t>overview of the lesson sequences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 for the unit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cus of this presentation will be on Lessons 2- 4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It will be presented in depth since this lesson represents the expectations to be addressed (D 2.5 and D 3.4) and concepts to be learned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.  The lab, Gizmos lab work period, and Peer Activity ‘Developing Flowcharts to Solve Problems’ also address these expectations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5334120" y="1546200"/>
            <a:ext cx="919080" cy="61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:\Profiles\ICW087-PAF.ICICLE.062\Local Settings\Temporary Internet Files\Content.IE5\5Z9UOFNT\MC900439407[1].jpg"/>
          <p:cNvPicPr/>
          <p:nvPr/>
        </p:nvPicPr>
        <p:blipFill>
          <a:blip r:embed="rId2"/>
          <a:stretch/>
        </p:blipFill>
        <p:spPr>
          <a:xfrm>
            <a:off x="7010280" y="1219320"/>
            <a:ext cx="1349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Hook : </a:t>
            </a: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‘Hamburger Sandwiches’ Problem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ntroduce the ‘Hamburger Sandwiches’ problem as an Investigation for students to solve without teacher assistance.  This problem links their understanding of balanced equations, masses of reactants and products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o the concept of converting moles to mass in chemical equations.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Lesson courtesy of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Journal of Chemical Education Vol. 80 No. 9 September 2003 - see pdf file attached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‘</a:t>
            </a: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Hamburger Sandwiches’ Problem             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1: Understanding Formulas and the Use of Equation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principal has organized a school meeting and you are charged with ordering lunch from a hamburger chain called Burger Chem that makes sandwiches using two or three identical slices of brea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You ordered 100 MacChem sandwiches, but somebody made a mistake and 100 HambChem and 100 CheeseChem were delivered instead. You need to convert these other types of sandwiches into 100 MacChem before the principal notices the error.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How many HambChem and CheeseChem do you need to obtain 100 MacChem sandwiches if compositions are: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HambChem: 2 slices of bread (B) and 2 hamburgers (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CheeseChem: 2 slices of bread and 2 slices of cheese (C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MacChem: 3 slices of bread, 2 hamburgers, and 1 slice of cheese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2: Understanding Mass Conserva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What is the mass of 100 MacChem sandwiches? Is there any relationship between the mass of 100 MacChem sandwiches and the masses of 100 HambChem plus 50 CheeseChem?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Data: mass of each slice of bread (B), 25 g; mass of each hamburger (H), 80 g; mass of each cheese slice (Ch), 15 g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7315200" y="2590920"/>
            <a:ext cx="919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Student Exploration to Discover How to Use</a:t>
            </a:r>
            <a:r>
              <a:rPr b="0" lang="en-CA" sz="3600" spc="-1" strike="noStrike">
                <a:solidFill>
                  <a:srgbClr val="000000"/>
                </a:solidFill>
                <a:latin typeface="Candara"/>
              </a:rPr>
              <a:t> Molar Masses in Stoichiometric Problems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llowing the ‘Hamburger Sandwiches’ problem, the teacher can allow the students to work in groups on the following problem to observe their problem solving skills (diagnostic assessment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If 3.75 grams of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itrogen gas are used in the following reaction, are 3 x 3.75 grams of hydrogen gas required for the reaction to occur completely?  Why or Why not?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The teacher can provide the following hints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Convert the macroscopic information / numbers (large-scale) to the microscopic numbers (small-scale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You need to use the molar mass of a compound (microscopic) to find its actual / real (macroscopic) mass”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209320"/>
            <a:ext cx="74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Depending on student success and progress with the previous problem, the teacher can  present the following steps to help students organize their solution proces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ndara"/>
              </a:rPr>
              <a:t>Four steps required to solve stoichiometric problems (Algorithm)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1. Write the balanced equation for the reaction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2. Convert the given mass or volume of a reactant or product to mole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3. Use the coefficients in the balanced equation to set up the appropriate mole ratio and multiply to     calculate moles of the desired reactant or product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4. Convert moles of the desired reactant or product to mass or volume require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73e87"/>
                </a:solidFill>
                <a:latin typeface="Candara"/>
              </a:rPr>
              <a:t>OR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Alternatively students could use the GRASS / GRASP (Given, Required, Analysis, Solution,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Sentence /Phrase) metho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Providing Algorithms to Assist with Problem Solving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Profiles\ICW087-PAF.ICICLE.062\Local Settings\Temporary Internet Files\Content.IE5\NDCBJD59\MP900411803[1].jpg"/>
          <p:cNvPicPr/>
          <p:nvPr/>
        </p:nvPicPr>
        <p:blipFill>
          <a:blip r:embed="rId1"/>
          <a:stretch/>
        </p:blipFill>
        <p:spPr>
          <a:xfrm>
            <a:off x="7467480" y="25146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1981080"/>
            <a:ext cx="740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 u="sng">
                <a:solidFill>
                  <a:srgbClr val="000000"/>
                </a:solidFill>
                <a:uFillTx/>
                <a:latin typeface="Candara"/>
              </a:rPr>
              <a:t>Topic 1: Predicting the Mass of a Reacta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now conduct formal ‘scientific’ calculations using the following reaction.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: Calculate the mass of the second reactant in the reaction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How many grams of hydrogen gas are required for 3.75 grams of nitrogen gas to react completely?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Calculate the number of mole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gas in 3.75 grams of nitroge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atomic mas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is 14.007 u.  There are 2 nitrogen atoms, therefore 28.014 u = 28.014 g / mol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number of moles in 3.75 g of nitrogen:           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8.014 g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=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3.75 g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          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13 moles of nit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3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e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reacts with 3 moles of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o the number of moles of hydrogen required = 0.13 x 3 = 0.39 mole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4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moles of the desired reactant or product to mass or volume requir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Molar mass of hydrogen = 2 x 1.008 u = 2.016 u = 2.016 g /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mass of hydrogen in 0.39 mole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.016 g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=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0.39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79 g of hyd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Concluding statement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3.75 g of nitrogen requires 0.79 g of hydrogen to react completely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828440"/>
            <a:ext cx="7408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73e87"/>
                </a:solidFill>
                <a:uFillTx/>
                <a:latin typeface="Candara"/>
              </a:rPr>
              <a:t>Topic 2: Predicting the Mass of a Produ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attempt to calculate the mass of the product given questions such as...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What mass of ammonia is formed when 3.75 g of nitrogen gas reacts with hydrogen gas?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Earlier we calculated that 3.75 grams of nitrogen contain 0.133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42:54Z</dcterms:created>
  <dc:creator>user</dc:creator>
  <dc:description/>
  <dc:language>en-US</dc:language>
  <cp:lastModifiedBy>user</cp:lastModifiedBy>
  <dcterms:modified xsi:type="dcterms:W3CDTF">2011-11-09T17:06:50Z</dcterms:modified>
  <cp:revision>29</cp:revision>
  <dc:subject/>
  <dc:title>Stoichiometry</dc:title>
</cp:coreProperties>
</file>